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D48-D0F6-4AB5-B7CD-281D4AC1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497-AD06-48F9-9A6B-49323250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01E5-B45E-49EB-9C2E-5A7B6575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58E04-74E8-49FD-8CFC-636DBFC2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D1CB9-C53D-40C4-80B3-66AFA027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B8AEC-5A96-45BA-AF05-E9C457B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FAA37-4C45-4A03-A5D9-97FC1C9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6CFBB-C635-45A5-AB35-F1E2A7D9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973DB-831D-45C8-B31D-78BD3F7D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6FA72-A93E-4E5B-B769-C4579EBE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B372E-E601-4CF9-AEF9-4398EF9A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0FA6B-6EF9-4499-9262-DE5786A8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A3F-C3A8-41F0-9E92-3691BECA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1FE52-145F-4B7F-A5CA-CF0970C5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E4EE8-0DB3-48FE-BC60-0F4D864C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793E5-C807-48FD-BAC7-663B1ED8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C8F9D-D7C5-4C89-9890-98BA3D2F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BD9A3-F4D0-4F9C-B87A-D5387577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00FBF-18B2-44EE-9B68-8A11E94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EB84E-42FB-42DF-9965-8939A974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FF41B-98E3-43B2-8AD6-8E06FD71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DC27B-A449-4CCD-A19D-99B0593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FDD68-8A67-457C-8C3D-E3476BE6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EE2-CEBB-426A-BBC6-AFE09783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EBBBA-3A9D-4A0C-81E4-EFF97092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62FC-7979-4882-BC89-0E37FF8E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84FD5-3F47-4A6A-BAC9-7E8612B7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976E2-9CE6-4FA6-A76E-08C682F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342DD-8899-4024-B60A-8DB00A85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FC9B5-7A62-463E-8922-8B1B29FB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068DC-E2F3-4F8E-924F-B9FA8334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DF13F-DACB-4C0B-93E4-A229FDE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13928-0DD4-45BA-8FCD-D2EA067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DC538-DC78-49AF-8614-56AB9C3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598B-560E-4640-8186-AC83DF0F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5E49E-DBE4-49B2-BB13-B81823A9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D891B-52C5-4CFE-870C-F959227B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53D8-4924-48AB-AFD4-6B01237E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3BB28-5B73-4A26-9FDC-E9C72048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B431B-75DD-4E3B-8BD4-42AA5485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5522F-F668-4766-A40E-D54A5043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F32B1-6405-4C99-B641-7B6C9374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E3573-0772-4BC3-9748-5E7A5DE2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F6CBD-87FE-4816-AB7F-BC921D16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54D6B-7C9A-4F53-88D3-00E16958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1EFC-9230-4C17-9147-2F0D190C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EFF6C-B97B-4CAB-804C-6550BC7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B8A91-F8FC-4419-998D-04CD54D8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83A31-CA23-4F61-9711-F098E61A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01CF5-4E00-4779-B623-5571369F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8CB45-46F8-47D7-8570-3A186658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62DF-AC2D-4DBF-9291-7CA9DF73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9B18-3422-47FA-9A87-28A293A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87AA-FD5C-4B2F-92DE-E9137E0B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F097-120E-4D8F-AFDC-B40096F5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2FCE-1541-4400-BE32-6366E91C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B8C-8A8C-4839-9078-085BF6FC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F5DD-DD76-48EF-B5F9-4D03670B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AD32-DD06-4331-BA88-773DACBB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698B-EB33-43F0-90F8-F7E9E382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5C8C-01B7-4FEC-98FD-596D4BB3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6B60-4FA1-4D9D-AD9C-3659AC84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1AB9-6713-448E-88ED-C10E6D3A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0C8D-ACDD-4D8C-849A-5CC0F175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32356-6371-4C7A-AE45-3FB52D3D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46589-18F5-4851-A1C4-3F11015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CF805-629E-44CB-9334-FEE50172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FDE-1FDD-4DBE-8071-245B94EB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F086-D6CB-4F8A-A451-55F70CAE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3B29-F444-4B91-B76E-A1FFCEB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38A4-C778-45A8-8506-06D6771E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29A29-9C36-48B3-9081-43D4BD8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445C-9D87-461A-A656-8A34BA0C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7D7A-EBB5-490D-9C9A-89862BC5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624A-5F99-4513-9611-CE487563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EA97-7748-4989-B16E-9A90AC75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3B747-209E-42A9-93B2-38576A38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D8024-D5E0-4211-BFCA-067DD678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0D1-B4FB-4A6B-81BB-BB3B9136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93AB-7D1E-43EA-9EF3-31A6A2A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35452-575D-48BE-8DE4-BE015C09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CB8B-6230-4CAF-877A-1B9F3F0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A165-4575-4D2F-B5A7-84334DA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A889A-E06A-4A68-8BB8-F6E79C9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1F3B-A8DE-44C0-B7C8-B6E41782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2CC14-0628-4F47-A2FF-42FC6AF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4973-5AD7-4745-99D8-E715EC14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09BD1-4A3C-4539-AA31-8C50137B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2DF89-4728-43DF-886D-C05D4B7C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23D-5970-4319-897B-8F82F6BD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6F0D5-CD4D-4AB1-BDD9-9DA229AF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33AAC-0F77-4DDF-80A2-A873DF2C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FE5A7-B238-497A-A96B-2459C13B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9C32-58CA-4E6E-8B15-FED11F03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7F6B1-37B1-4FDE-8DBF-B3DCD0BA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4F893-ED38-44A3-94B0-A52F29D9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D11FB-098F-406D-92CF-C51FC7E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CC386-AA64-4E71-A9D3-0F61DC72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B214-F3DE-45B5-86C9-3783A8F8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97075-8ACF-479D-8AC2-C210C4B6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4A1-8DF8-48FF-8C4E-18E93B2A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DBED-6212-4FB7-AA8E-B67B0757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0BBE-8819-45F4-8201-8CD18F95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14E39-7923-4B0B-A04E-FF40FED9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D72C-A8F9-4D4B-B2A3-94B0164E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CEEE8-50CA-48E3-9562-ADB99428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33B2-7128-4FA2-9CE7-4234B18E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84A75-E46D-40C6-8909-C97D266D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F0C22-B536-42A2-94DF-877EF17B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74868-C2E0-4D1A-917C-72A6A05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7AD9D-686B-4F6E-A94D-ABB123B7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0D7-923B-4260-80D6-F6EA93B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90C4C-88D2-4350-BCBB-F2DC460D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6D2F2-2402-41C3-98C9-99E03D71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8012F-F1B9-4217-B035-03D4FF11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117E2-CDFD-460E-99E8-CB98E0BE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EC91B-76FB-420B-97FE-65771489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AB741-50C4-4FD4-8177-4C0DA1EE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93F58-8865-41F4-BDB4-AB0E6177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ACE10-3E0C-48DB-BB90-C7ED59E8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AF06A-66F4-404C-B126-00B71D04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973C-2F11-4AC4-8C2F-D3B6141B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A74-81B8-41EC-809A-4E6A5572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279C-B33A-4292-8DEB-2DB07AD2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F5DA2-1061-4965-9165-4E9D98BC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904D1-56F1-4D64-A2BC-DF81DAC7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94361-CBBC-4D7A-BAF3-968F35E9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9A3BA-415D-4EC6-9873-7483C2BD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7C1F4-B3DB-4B1F-BBA8-3C18EA91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E6598-014E-465F-86A0-910E064B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75FB4-BCEB-421E-885D-E3A93172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13ED7-6BBF-413C-9F44-A0E7D4C2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F4BFE-1AAB-403A-9C5B-86D44979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7FD-4195-4674-996E-EF246399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E8A94-EE69-4AE1-A439-D199980F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D30C6-B6D4-4EB2-BAA5-5B023CB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043DF-750C-4E77-A68A-84CBC7D4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59BEC-BA48-4FA8-A6FC-D7CE6608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453A1-DA53-4A26-93F0-3593B9D4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C9AC4-671B-483B-BDBD-049B5782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50FF1-FCC2-41AB-8272-C65B596D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AF4B3-3A4F-4AC2-AF79-94191F64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A2240-1157-438F-BB1D-55B10D5E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45C5-2806-47B8-8E71-41E29710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95A6-B93C-4F4A-BB2E-38210B0418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9751-5CFA-4BC6-8056-2FFDDC2F0F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45C8-8D16-4AD8-8388-A18E63F3FE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F03F-034C-4B59-AA12-FC5E4A754A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45E0-2B39-4A1A-9A1E-1A1C2EC842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34DD-5FF0-486B-8D13-1B8C98E9E6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FC40-B77D-4D14-8E1D-8C1788FD62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7DF3-18CE-4D16-BC2F-A429898B7B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5F17-BA97-4C45-90EB-0211301F1E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FCAF-E682-4B4D-AFD4-B6CEE054B3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44EE-6B90-4005-A516-A9911995A0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D8AA-4825-4417-BE48-BB2FE00B97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 Pred tvojou láskou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vojou lásk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skláň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s vďačnou úctou, pokor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rúcnu chvál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vzd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kríž je mojou opo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tvoja milosť neskonal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večný život darov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Pane, k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v láske st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n bremä snímaš, dávaš m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ádej vlievaš, tešíš v ži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e si za nás m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chcem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s hriechom bor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tvojej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sa vnor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túžiš, aby všetci ľud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spásy v tebe prij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í, čo vo tme hriechu blúd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ebe pomoc hľada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pomô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a verným stan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dkom o tvojej láske, Pan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02:52Z</dcterms:modified>
  <cp:revision>30</cp:revision>
  <dc:subject/>
  <dc:title>Je veľký náš Pán, on slávy je Kráľ Nech do všetkých strán  spev vrúcnych znie chvál.</dc:title>
</cp:coreProperties>
</file>